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AutoShape 1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AutoShape 2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90520" y="933120"/>
            <a:ext cx="4469040" cy="33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3640" cy="37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1190520" y="933480"/>
            <a:ext cx="4475160" cy="336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1060200" y="4626000"/>
            <a:ext cx="47386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FC2-59A4-4FB9-ABFA-DA4D60B4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1EC-B655-473B-920B-D7621486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DDC-21EA-465A-9F4B-5752D834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0C6-523B-4DDB-ADAF-2BCAD10D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D5AA-2256-4AB8-A218-8847B933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433-DDC9-4BBF-A880-5BFEB7D5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571C-B726-4724-B044-6481DD6A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90A7-10D2-42E9-A57D-16132DC4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CF0E-F496-401E-81B5-6B3EB99A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2E31-2B6F-4C4F-9043-C5F4EA50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4819-7F46-4291-AEA3-DB2BB56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2BA-73ED-4963-93D3-3737226C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050A-5A3F-4283-AD08-5161220F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33C2-04C7-46CE-B988-8AE0E846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DF12-5614-40A8-B577-D808DE3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FF72-1D8B-462A-8251-35B8995C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7BD0-D358-4144-A617-9A8B39D8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8AB4-EAC6-4651-AED7-1A97D401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1E79B-1B1F-4DE5-A5AD-62E32ED1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2748-0769-48E4-9A4B-883E240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B5FDE-BAE7-4BD0-9C7F-1942931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B3ED0-749B-44C9-85DA-613A4EFD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4CF-FF11-42C3-8871-35BBAC7A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7987-9F94-46C7-92CC-B7825EBE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344A9-A766-4DA6-AFF7-33F5E8C1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44F9D-A37C-4613-8641-636D265A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B42C3-FD06-40C4-85F3-AC0E6009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B4CAD-4D6F-4B51-9543-25F1CB4D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1077-33F7-4714-8198-D0BE4298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62769-4D3D-4ECB-B9B5-47F23D3B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E3CE5-B805-480B-9753-28248FA6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69B7-C67D-4315-A13E-662A385B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D0504-2001-47F4-8DE9-13A9789A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8AF4-3471-4580-AB7D-007AB635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A6E1-95E7-4C2E-9D79-AA070BE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6697-1374-4FA3-9E59-4D4623A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2525D-9327-4FD5-8F94-440858C6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79DE-0AFA-41E3-AD4B-29E031A4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9127-B486-48C2-B20E-B3F123A2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6466-754E-4D06-9C2C-BC999CE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B0006-1F98-4C25-B418-9630B3DE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353A6-3698-44E3-B74F-9E8B69B3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35D78-AF98-4EC8-BA1F-0FAD9B08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8E6-F7DB-4CE2-AF60-0B1B0296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A5A-4D75-45C1-B545-41A2498F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B62B-BDAA-40F0-B34B-53350A3A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FF0-B0BD-4AD5-AC03-741031F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331-EEDC-4F1A-B820-70D108F6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ec"/>
            </a:gs>
            <a:gs pos="100000">
              <a:srgbClr val="fc90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87E93-091D-4DEF-987E-64DD892B66B3}" type="slidenum">
              <a:rPr b="0" lang="en-GB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ec"/>
            </a:gs>
            <a:gs pos="100000">
              <a:srgbClr val="fc90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48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3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54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6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7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8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592B2-04D1-4D39-9F42-F10C5BD94603}" type="slidenum">
              <a:rPr b="0" lang="en-GB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ec"/>
            </a:gs>
            <a:gs pos="100000">
              <a:srgbClr val="fc90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0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0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6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023F6-AEE8-462C-8BCE-0DEEF0ECF220}" type="slidenum">
              <a:rPr b="0" lang="en-GB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ec"/>
            </a:gs>
            <a:gs pos="100000">
              <a:srgbClr val="fc90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50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1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2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3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54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5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D1038-207A-47DE-BC12-2F7C7AB690EC}" type="slidenum">
              <a:rPr b="0" lang="en-GB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ec"/>
            </a:gs>
            <a:gs pos="100000">
              <a:srgbClr val="fc90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99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0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1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2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03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dec"/>
            </a:gs>
            <a:gs pos="100000">
              <a:srgbClr val="fc908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900" spc="-1" strike="noStrike">
                <a:solidFill>
                  <a:srgbClr val="f9211b"/>
                </a:solidFill>
                <a:latin typeface="Century Gothic"/>
              </a:rPr>
              <a:t>SAVOIR CONSTRUIRE </a:t>
            </a:r>
            <a:r>
              <a:rPr b="1" lang="fr-FR" sz="5900" spc="-1" strike="noStrike">
                <a:solidFill>
                  <a:srgbClr val="f9211b"/>
                </a:solidFill>
                <a:latin typeface="Century Gothic"/>
              </a:rPr>
              <a:t>L’ARBRE</a:t>
            </a:r>
            <a:r>
              <a:rPr b="1" lang="en-GB" sz="5900" spc="-1" strike="noStrike">
                <a:solidFill>
                  <a:srgbClr val="f9211b"/>
                </a:solidFill>
                <a:latin typeface="Century Gothic"/>
              </a:rPr>
              <a:t> DES CAUSES</a:t>
            </a:r>
            <a:endParaRPr b="0" lang="en-US" sz="5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9" name="WordArt 2" descr=""/>
          <p:cNvPicPr/>
          <p:nvPr/>
        </p:nvPicPr>
        <p:blipFill>
          <a:blip r:embed="rId1"/>
          <a:stretch/>
        </p:blipFill>
        <p:spPr>
          <a:xfrm>
            <a:off x="2773440" y="2822400"/>
            <a:ext cx="3597120" cy="354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1400" y="620280"/>
            <a:ext cx="7809120" cy="77940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L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entury Gothic"/>
              </a:rPr>
              <a:t>MA</a:t>
            </a: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 TÉRI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95280" y="1781280"/>
            <a:ext cx="8424720" cy="402408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 fontScale="93000"/>
          </a:bodyPr>
          <a:p>
            <a:pPr marL="391320" indent="-29376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Pour quelles raisons utilisait-il ce matérie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1320" indent="-29376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Quelle machine, quels outils utilisait-i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1320" indent="-29376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Quels sont les risques connus sur cet outillage, machin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1320" indent="-29376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Dans quel état était ce matériel? (entretien, maintenance, vétusté)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91320" indent="-29376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Y a-t-il eu une panne, une défaillance? Si oui laquell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L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entury Gothic"/>
              </a:rPr>
              <a:t>MI</a:t>
            </a: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 LIEU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71400" y="907920"/>
            <a:ext cx="7958160" cy="504216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420840" indent="-31608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Quelle était l'organisation du travail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Y a-t-il eu des facteurs d'ambiance physique, chimique... qui ont joué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Quelles communications dans le travail? Quels moyens,qualité.....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Qualité des relations dans l'équip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714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QUAND RECUEILLIR LES FAITS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71400" y="1780920"/>
            <a:ext cx="7958160" cy="337644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104760" algn="ctr">
              <a:lnSpc>
                <a:spcPct val="93000"/>
              </a:lnSpc>
              <a:spcBef>
                <a:spcPts val="9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IMMEDIATEMENT après l'accident « à chaud »,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9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mais également </a:t>
            </a:r>
            <a:r>
              <a:rPr b="1" lang="en-GB" sz="3600" spc="-1" strike="noStrike">
                <a:solidFill>
                  <a:srgbClr val="ffffff"/>
                </a:solidFill>
                <a:latin typeface="Century Gothic"/>
              </a:rPr>
              <a:t>postérieurement</a:t>
            </a:r>
            <a:r>
              <a:rPr b="0" lang="en-GB" sz="3600" spc="-1" strike="noStrike">
                <a:solidFill>
                  <a:srgbClr val="ffffff"/>
                </a:solidFill>
                <a:latin typeface="Century Gothic"/>
              </a:rPr>
              <a:t> pour compléter les informatio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68160" y="115560"/>
            <a:ext cx="7807680" cy="16016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entury Gothic"/>
              </a:rPr>
              <a:t>ORGANISER LES FAIT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entury Gothic"/>
              </a:rPr>
              <a:t>CONSTRUIRE L'ARBRE DES CAU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5280" y="1483920"/>
            <a:ext cx="8282160" cy="485460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10476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Il s'agit de reconstruire les enchaînements et les combinaisons des faits qui ont joué un rôle dans la survenue de l'accident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Pour construire l'arbre des causes, nous posons trois questions à partir de la blessure 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Qu'a-t-il fallu pour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st-ce necessair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Est-ce suffisan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4000" y="4568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SYMBOL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Oval 2"/>
          <p:cNvSpPr/>
          <p:nvPr/>
        </p:nvSpPr>
        <p:spPr>
          <a:xfrm>
            <a:off x="2895480" y="2133720"/>
            <a:ext cx="1143000" cy="1143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4959720" y="247824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ait inhabitu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2666880" y="4038480"/>
            <a:ext cx="1524240" cy="838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087160" y="4191120"/>
            <a:ext cx="23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ait perman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LES LIAIS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1260360" y="2879640"/>
            <a:ext cx="2149560" cy="2149560"/>
            <a:chOff x="1260360" y="2879640"/>
            <a:chExt cx="2149560" cy="2149560"/>
          </a:xfrm>
        </p:grpSpPr>
        <p:sp>
          <p:nvSpPr>
            <p:cNvPr id="282" name="Oval 3"/>
            <p:cNvSpPr/>
            <p:nvPr/>
          </p:nvSpPr>
          <p:spPr>
            <a:xfrm>
              <a:off x="1260360" y="2879640"/>
              <a:ext cx="2149560" cy="2149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83" name="WordArt 4"/>
            <p:cNvSpPr txBox="1"/>
            <p:nvPr/>
          </p:nvSpPr>
          <p:spPr>
            <a:xfrm>
              <a:off x="1660680" y="3284640"/>
              <a:ext cx="1339560" cy="133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9534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l'ouvri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gliss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84" name="Group 5"/>
          <p:cNvGrpSpPr/>
          <p:nvPr/>
        </p:nvGrpSpPr>
        <p:grpSpPr>
          <a:xfrm>
            <a:off x="6515280" y="2882880"/>
            <a:ext cx="2149200" cy="2149560"/>
            <a:chOff x="6515280" y="2882880"/>
            <a:chExt cx="2149200" cy="2149560"/>
          </a:xfrm>
        </p:grpSpPr>
        <p:sp>
          <p:nvSpPr>
            <p:cNvPr id="285" name="Oval 6"/>
            <p:cNvSpPr/>
            <p:nvPr/>
          </p:nvSpPr>
          <p:spPr>
            <a:xfrm>
              <a:off x="6515280" y="2882880"/>
              <a:ext cx="2149200" cy="21495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86" name="WordArt 7"/>
            <p:cNvSpPr txBox="1"/>
            <p:nvPr/>
          </p:nvSpPr>
          <p:spPr>
            <a:xfrm>
              <a:off x="6915240" y="3287880"/>
              <a:ext cx="1339920" cy="13395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9534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l'ouvri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omb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7" name="Line 8"/>
          <p:cNvSpPr/>
          <p:nvPr/>
        </p:nvSpPr>
        <p:spPr>
          <a:xfrm>
            <a:off x="3352680" y="3962520"/>
            <a:ext cx="3162600" cy="144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WordArt 9"/>
          <p:cNvSpPr txBox="1"/>
          <p:nvPr/>
        </p:nvSpPr>
        <p:spPr>
          <a:xfrm>
            <a:off x="3048120" y="1447920"/>
            <a:ext cx="33526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+mn-lt"/>
              </a:rPr>
              <a:t>Chaîn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89" name="WordArt 10"/>
          <p:cNvSpPr txBox="1"/>
          <p:nvPr/>
        </p:nvSpPr>
        <p:spPr>
          <a:xfrm>
            <a:off x="1143000" y="5334120"/>
            <a:ext cx="2457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Un antécé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290" name="WordArt 11"/>
          <p:cNvSpPr txBox="1"/>
          <p:nvPr/>
        </p:nvSpPr>
        <p:spPr>
          <a:xfrm>
            <a:off x="6705720" y="5334120"/>
            <a:ext cx="160020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 f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429000" y="6095880"/>
            <a:ext cx="3162240" cy="1800"/>
          </a:xfrm>
          <a:prstGeom prst="line">
            <a:avLst/>
          </a:prstGeom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10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LES LIAIS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3" name="Group 2"/>
          <p:cNvGrpSpPr/>
          <p:nvPr/>
        </p:nvGrpSpPr>
        <p:grpSpPr>
          <a:xfrm>
            <a:off x="914400" y="1303200"/>
            <a:ext cx="1430280" cy="1430640"/>
            <a:chOff x="914400" y="1303200"/>
            <a:chExt cx="1430280" cy="1430640"/>
          </a:xfrm>
        </p:grpSpPr>
        <p:sp>
          <p:nvSpPr>
            <p:cNvPr id="294" name="Oval 3"/>
            <p:cNvSpPr/>
            <p:nvPr/>
          </p:nvSpPr>
          <p:spPr>
            <a:xfrm>
              <a:off x="914400" y="1303200"/>
              <a:ext cx="1430280" cy="14306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95" name="WordArt 4"/>
            <p:cNvSpPr txBox="1"/>
            <p:nvPr/>
          </p:nvSpPr>
          <p:spPr>
            <a:xfrm>
              <a:off x="1049400" y="1455840"/>
              <a:ext cx="1190520" cy="1190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721079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haussur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à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emelles liss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96" name="Group 5"/>
          <p:cNvGrpSpPr/>
          <p:nvPr/>
        </p:nvGrpSpPr>
        <p:grpSpPr>
          <a:xfrm>
            <a:off x="7467480" y="2895480"/>
            <a:ext cx="1430280" cy="1430280"/>
            <a:chOff x="7467480" y="2895480"/>
            <a:chExt cx="1430280" cy="1430280"/>
          </a:xfrm>
        </p:grpSpPr>
        <p:sp>
          <p:nvSpPr>
            <p:cNvPr id="297" name="Oval 6"/>
            <p:cNvSpPr/>
            <p:nvPr/>
          </p:nvSpPr>
          <p:spPr>
            <a:xfrm>
              <a:off x="7467480" y="2895480"/>
              <a:ext cx="1430280" cy="14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98" name="WordArt 7"/>
            <p:cNvSpPr txBox="1"/>
            <p:nvPr/>
          </p:nvSpPr>
          <p:spPr>
            <a:xfrm>
              <a:off x="7734240" y="3165480"/>
              <a:ext cx="890640" cy="890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9534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l'ouvri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omb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99" name="WordArt 8"/>
          <p:cNvSpPr txBox="1"/>
          <p:nvPr/>
        </p:nvSpPr>
        <p:spPr>
          <a:xfrm>
            <a:off x="5105520" y="12952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+mn-lt"/>
              </a:rPr>
              <a:t>Conjonc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+mn-lt"/>
              <a:ea typeface="+mn-lt"/>
            </a:endParaRPr>
          </a:p>
        </p:txBody>
      </p:sp>
      <p:grpSp>
        <p:nvGrpSpPr>
          <p:cNvPr id="300" name="Group 9"/>
          <p:cNvGrpSpPr/>
          <p:nvPr/>
        </p:nvGrpSpPr>
        <p:grpSpPr>
          <a:xfrm>
            <a:off x="914400" y="2895480"/>
            <a:ext cx="1430280" cy="1430280"/>
            <a:chOff x="914400" y="2895480"/>
            <a:chExt cx="1430280" cy="1430280"/>
          </a:xfrm>
        </p:grpSpPr>
        <p:sp>
          <p:nvSpPr>
            <p:cNvPr id="301" name="Oval 10"/>
            <p:cNvSpPr/>
            <p:nvPr/>
          </p:nvSpPr>
          <p:spPr>
            <a:xfrm>
              <a:off x="914400" y="2895480"/>
              <a:ext cx="1430280" cy="1430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02" name="WordArt 11"/>
            <p:cNvSpPr txBox="1"/>
            <p:nvPr/>
          </p:nvSpPr>
          <p:spPr>
            <a:xfrm>
              <a:off x="1049400" y="3048120"/>
              <a:ext cx="1192320" cy="1190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45256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huil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u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le so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03" name="Group 12"/>
          <p:cNvGrpSpPr/>
          <p:nvPr/>
        </p:nvGrpSpPr>
        <p:grpSpPr>
          <a:xfrm>
            <a:off x="914400" y="4495680"/>
            <a:ext cx="1430280" cy="1430280"/>
            <a:chOff x="914400" y="4495680"/>
            <a:chExt cx="1430280" cy="1430280"/>
          </a:xfrm>
        </p:grpSpPr>
        <p:sp>
          <p:nvSpPr>
            <p:cNvPr id="304" name="Oval 13"/>
            <p:cNvSpPr/>
            <p:nvPr/>
          </p:nvSpPr>
          <p:spPr>
            <a:xfrm>
              <a:off x="914400" y="4495680"/>
              <a:ext cx="1430280" cy="14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05" name="WordArt 14"/>
            <p:cNvSpPr txBox="1"/>
            <p:nvPr/>
          </p:nvSpPr>
          <p:spPr>
            <a:xfrm>
              <a:off x="1049400" y="4648320"/>
              <a:ext cx="1192320" cy="11905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721079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l'ouvri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 posi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'effort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06" name="Line 15"/>
          <p:cNvSpPr/>
          <p:nvPr/>
        </p:nvSpPr>
        <p:spPr>
          <a:xfrm>
            <a:off x="2362320" y="3581280"/>
            <a:ext cx="5105160" cy="1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07" name="Group 16"/>
          <p:cNvGrpSpPr/>
          <p:nvPr/>
        </p:nvGrpSpPr>
        <p:grpSpPr>
          <a:xfrm>
            <a:off x="2362320" y="1981080"/>
            <a:ext cx="1900080" cy="3272040"/>
            <a:chOff x="2362320" y="1981080"/>
            <a:chExt cx="1900080" cy="3272040"/>
          </a:xfrm>
        </p:grpSpPr>
        <p:sp>
          <p:nvSpPr>
            <p:cNvPr id="308" name="Line 17"/>
            <p:cNvSpPr/>
            <p:nvPr/>
          </p:nvSpPr>
          <p:spPr>
            <a:xfrm>
              <a:off x="2362320" y="1981080"/>
              <a:ext cx="1890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09" name="Line 18"/>
            <p:cNvSpPr/>
            <p:nvPr/>
          </p:nvSpPr>
          <p:spPr>
            <a:xfrm>
              <a:off x="2362320" y="5253120"/>
              <a:ext cx="18903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10" name="Line 19"/>
            <p:cNvSpPr/>
            <p:nvPr/>
          </p:nvSpPr>
          <p:spPr>
            <a:xfrm>
              <a:off x="4262400" y="1981080"/>
              <a:ext cx="0" cy="3262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11" name="WordArt 20"/>
          <p:cNvSpPr txBox="1"/>
          <p:nvPr/>
        </p:nvSpPr>
        <p:spPr>
          <a:xfrm>
            <a:off x="2340000" y="5219640"/>
            <a:ext cx="245736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plusi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antécéd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312" name="WordArt 21"/>
          <p:cNvSpPr txBox="1"/>
          <p:nvPr/>
        </p:nvSpPr>
        <p:spPr>
          <a:xfrm>
            <a:off x="7199280" y="5092560"/>
            <a:ext cx="16002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 fa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5049720" y="5759280"/>
            <a:ext cx="1790640" cy="1800"/>
          </a:xfrm>
          <a:prstGeom prst="line">
            <a:avLst/>
          </a:prstGeom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2362320" y="1981080"/>
            <a:ext cx="5105160" cy="1600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Line 24"/>
          <p:cNvSpPr/>
          <p:nvPr/>
        </p:nvSpPr>
        <p:spPr>
          <a:xfrm flipV="1">
            <a:off x="2362320" y="3564000"/>
            <a:ext cx="5105160" cy="171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Line 25"/>
          <p:cNvSpPr/>
          <p:nvPr/>
        </p:nvSpPr>
        <p:spPr>
          <a:xfrm>
            <a:off x="2362320" y="3581280"/>
            <a:ext cx="510516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3160" y="68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LES LIAIS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1066680" y="2514600"/>
            <a:ext cx="1430280" cy="1430280"/>
            <a:chOff x="1066680" y="2514600"/>
            <a:chExt cx="1430280" cy="1430280"/>
          </a:xfrm>
        </p:grpSpPr>
        <p:sp>
          <p:nvSpPr>
            <p:cNvPr id="319" name="Oval 3"/>
            <p:cNvSpPr/>
            <p:nvPr/>
          </p:nvSpPr>
          <p:spPr>
            <a:xfrm>
              <a:off x="1066680" y="2514600"/>
              <a:ext cx="1430280" cy="14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20" name="WordArt 4"/>
            <p:cNvSpPr txBox="1"/>
            <p:nvPr/>
          </p:nvSpPr>
          <p:spPr>
            <a:xfrm>
              <a:off x="1219320" y="2743200"/>
              <a:ext cx="1069920" cy="106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9534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l'ouvri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rriv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en ret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21" name="Group 5"/>
          <p:cNvGrpSpPr/>
          <p:nvPr/>
        </p:nvGrpSpPr>
        <p:grpSpPr>
          <a:xfrm>
            <a:off x="7238880" y="914400"/>
            <a:ext cx="1430280" cy="1430280"/>
            <a:chOff x="7238880" y="914400"/>
            <a:chExt cx="1430280" cy="1430280"/>
          </a:xfrm>
        </p:grpSpPr>
        <p:sp>
          <p:nvSpPr>
            <p:cNvPr id="322" name="Oval 6"/>
            <p:cNvSpPr/>
            <p:nvPr/>
          </p:nvSpPr>
          <p:spPr>
            <a:xfrm>
              <a:off x="7238880" y="914400"/>
              <a:ext cx="1430280" cy="14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23" name="WordArt 7"/>
            <p:cNvSpPr txBox="1"/>
            <p:nvPr/>
          </p:nvSpPr>
          <p:spPr>
            <a:xfrm>
              <a:off x="7289640" y="1066680"/>
              <a:ext cx="1285920" cy="1209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355084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l'ouvrier n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hange pas d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chaussure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24" name="WordArt 8"/>
          <p:cNvSpPr txBox="1"/>
          <p:nvPr/>
        </p:nvSpPr>
        <p:spPr>
          <a:xfrm>
            <a:off x="1219320" y="1371600"/>
            <a:ext cx="312408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+mn-lt"/>
              </a:rPr>
              <a:t>Disjonc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+mn-lt"/>
              <a:ea typeface="+mn-lt"/>
            </a:endParaRPr>
          </a:p>
        </p:txBody>
      </p:sp>
      <p:grpSp>
        <p:nvGrpSpPr>
          <p:cNvPr id="325" name="Group 9"/>
          <p:cNvGrpSpPr/>
          <p:nvPr/>
        </p:nvGrpSpPr>
        <p:grpSpPr>
          <a:xfrm>
            <a:off x="7201080" y="4141800"/>
            <a:ext cx="1430280" cy="1430280"/>
            <a:chOff x="7201080" y="4141800"/>
            <a:chExt cx="1430280" cy="1430280"/>
          </a:xfrm>
        </p:grpSpPr>
        <p:sp>
          <p:nvSpPr>
            <p:cNvPr id="326" name="Oval 10"/>
            <p:cNvSpPr/>
            <p:nvPr/>
          </p:nvSpPr>
          <p:spPr>
            <a:xfrm>
              <a:off x="7201080" y="4141800"/>
              <a:ext cx="1430280" cy="14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27" name="WordArt 11"/>
            <p:cNvSpPr txBox="1"/>
            <p:nvPr/>
          </p:nvSpPr>
          <p:spPr>
            <a:xfrm>
              <a:off x="7391520" y="4343400"/>
              <a:ext cx="1069920" cy="106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9534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retar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dans l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produc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28" name="Group 12"/>
          <p:cNvGrpSpPr/>
          <p:nvPr/>
        </p:nvGrpSpPr>
        <p:grpSpPr>
          <a:xfrm>
            <a:off x="7238880" y="2514600"/>
            <a:ext cx="1430280" cy="1430280"/>
            <a:chOff x="7238880" y="2514600"/>
            <a:chExt cx="1430280" cy="1430280"/>
          </a:xfrm>
        </p:grpSpPr>
        <p:sp>
          <p:nvSpPr>
            <p:cNvPr id="329" name="Oval 13"/>
            <p:cNvSpPr/>
            <p:nvPr/>
          </p:nvSpPr>
          <p:spPr>
            <a:xfrm>
              <a:off x="7238880" y="2514600"/>
              <a:ext cx="1430280" cy="1430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30" name="WordArt 14"/>
            <p:cNvSpPr txBox="1"/>
            <p:nvPr/>
          </p:nvSpPr>
          <p:spPr>
            <a:xfrm>
              <a:off x="7391520" y="2743200"/>
              <a:ext cx="1069920" cy="1069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1953425"/>
                </a:avLst>
              </a:prstTxWarp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l'ouvri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ne met pa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3333"/>
                  </a:solidFill>
                  <a:latin typeface="Arial Black"/>
                </a:rPr>
                <a:t>son casqu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1" name="Line 15"/>
          <p:cNvSpPr/>
          <p:nvPr/>
        </p:nvSpPr>
        <p:spPr>
          <a:xfrm>
            <a:off x="2514600" y="3200400"/>
            <a:ext cx="472428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32" name="Group 16"/>
          <p:cNvGrpSpPr/>
          <p:nvPr/>
        </p:nvGrpSpPr>
        <p:grpSpPr>
          <a:xfrm>
            <a:off x="5410080" y="1600200"/>
            <a:ext cx="1819440" cy="1590840"/>
            <a:chOff x="5410080" y="1600200"/>
            <a:chExt cx="1819440" cy="1590840"/>
          </a:xfrm>
        </p:grpSpPr>
        <p:sp>
          <p:nvSpPr>
            <p:cNvPr id="333" name="Line 17"/>
            <p:cNvSpPr/>
            <p:nvPr/>
          </p:nvSpPr>
          <p:spPr>
            <a:xfrm>
              <a:off x="5410080" y="1600200"/>
              <a:ext cx="18194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34" name="Line 18"/>
            <p:cNvSpPr/>
            <p:nvPr/>
          </p:nvSpPr>
          <p:spPr>
            <a:xfrm>
              <a:off x="5410080" y="1600200"/>
              <a:ext cx="0" cy="15908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35" name="WordArt 19"/>
          <p:cNvSpPr txBox="1"/>
          <p:nvPr/>
        </p:nvSpPr>
        <p:spPr>
          <a:xfrm>
            <a:off x="1676520" y="5791320"/>
            <a:ext cx="2457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5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Un antécé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336" name="WordArt 20"/>
          <p:cNvSpPr txBox="1"/>
          <p:nvPr/>
        </p:nvSpPr>
        <p:spPr>
          <a:xfrm>
            <a:off x="6477120" y="5562720"/>
            <a:ext cx="205740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7718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lusi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ai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4495680" y="6172200"/>
            <a:ext cx="1791000" cy="1440"/>
          </a:xfrm>
          <a:prstGeom prst="line">
            <a:avLst/>
          </a:prstGeom>
          <a:ln w="63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38" name="Group 22"/>
          <p:cNvGrpSpPr/>
          <p:nvPr/>
        </p:nvGrpSpPr>
        <p:grpSpPr>
          <a:xfrm>
            <a:off x="5410080" y="3192120"/>
            <a:ext cx="1819440" cy="1606680"/>
            <a:chOff x="5410080" y="3192120"/>
            <a:chExt cx="1819440" cy="1606680"/>
          </a:xfrm>
        </p:grpSpPr>
        <p:sp>
          <p:nvSpPr>
            <p:cNvPr id="339" name="Line 23"/>
            <p:cNvSpPr/>
            <p:nvPr/>
          </p:nvSpPr>
          <p:spPr>
            <a:xfrm>
              <a:off x="5410080" y="4791240"/>
              <a:ext cx="18194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40" name="Line 24"/>
            <p:cNvSpPr/>
            <p:nvPr/>
          </p:nvSpPr>
          <p:spPr>
            <a:xfrm flipV="1">
              <a:off x="5410080" y="3192120"/>
              <a:ext cx="0" cy="1606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p:transition>
    <p:wedg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3640" y="536400"/>
            <a:ext cx="862164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9211b"/>
                </a:solidFill>
                <a:latin typeface="Century Gothic"/>
              </a:rPr>
              <a:t>L’ARBRE DES CAUSE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41360" y="1717560"/>
            <a:ext cx="809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325520" y="2590920"/>
            <a:ext cx="649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’arbre des causes est la représentation graphique de l’enchaînement logique des faits qui ont provoqué un acciden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456840"/>
            <a:ext cx="828036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fr-FR" sz="3200" spc="-1" strike="noStrike">
                <a:solidFill>
                  <a:srgbClr val="f9211b"/>
                </a:solidFill>
                <a:latin typeface="Century Gothic"/>
              </a:rPr>
              <a:t>RECUEIL</a:t>
            </a: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 DE </a:t>
            </a:r>
            <a:r>
              <a:rPr b="1" lang="fr-FR" sz="3200" spc="-1" strike="noStrike">
                <a:solidFill>
                  <a:srgbClr val="f9211b"/>
                </a:solidFill>
                <a:latin typeface="Century Gothic"/>
              </a:rPr>
              <a:t>DONNÉ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9640" y="2133360"/>
            <a:ext cx="806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entury Gothic"/>
              </a:rPr>
              <a:t>Collecter des faits concrets, précis, objectif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entury Gothic"/>
              </a:rPr>
              <a:t>Examiner l’ensemble des éléments de la situation de travai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entury Gothic"/>
              </a:rPr>
              <a:t>Remonter le plus loin possible en partant de l'acciden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entury Gothic"/>
              </a:rPr>
              <a:t>Rechercher en priorité les faits inhabituels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entury Gothic"/>
              </a:rPr>
              <a:t>Se poser plusieurs questions pour chaque fait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entury Gothic"/>
              </a:rPr>
              <a:t>Qu’a-t’il fallu pour que cela arrive 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entury Gothic"/>
              </a:rPr>
              <a:t>Est-ce nécessaire 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900" spc="-1" strike="noStrike">
                <a:solidFill>
                  <a:srgbClr val="000000"/>
                </a:solidFill>
                <a:latin typeface="Century Gothic"/>
              </a:rPr>
              <a:t>Est-ce suffisant ?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25440" indent="-3254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255240"/>
            <a:ext cx="7809120" cy="114444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ANALYSER ET COMPREND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000" y="1400040"/>
            <a:ext cx="8170920" cy="469296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Recueillir des faits ou mener l'enquêt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n fait c'est quoi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- Une a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- Un ét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- Concret, visib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- Préci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- Vérifiab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71400" y="880920"/>
            <a:ext cx="7809120" cy="103536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9211b"/>
                </a:solidFill>
                <a:latin typeface="Century Gothic"/>
              </a:rPr>
              <a:t>RECOMMAND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78040" y="1655640"/>
            <a:ext cx="7689600" cy="432144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430200" indent="-31428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E SONT PAS DES FAI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0200" indent="-31428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ne opin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0200" indent="-31428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n juge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30200" indent="-31428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Une interprétati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71400" y="-39600"/>
            <a:ext cx="7809120" cy="173520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DANS LA SITUATION DE TRAVAIL, LES               FAITS  CONCERN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0920" y="1484280"/>
            <a:ext cx="8642160" cy="417672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10476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'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I</a:t>
            </a:r>
            <a:r>
              <a:rPr b="1" i="1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ndividu, ce qu'il est, ses compétences, son ancienneté au poste, sa form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10476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a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T</a:t>
            </a:r>
            <a:r>
              <a:rPr b="1" i="1" lang="en-GB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che qu'il effect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10476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MA</a:t>
            </a:r>
            <a:r>
              <a:rPr b="1" i="1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tériel qu'il utilise (machines, outils, produits)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10476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Century Gothic"/>
              </a:rPr>
              <a:t>MI</a:t>
            </a:r>
            <a:r>
              <a:rPr b="1" i="1" lang="en-GB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lieu dans lequel se déroule le travail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71040" y="242640"/>
            <a:ext cx="8077320" cy="116820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AUPRÈS DE QUI RECUEILLIR LES FAITS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71400" y="1527120"/>
            <a:ext cx="7958160" cy="492624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 fontScale="99000"/>
          </a:bodyPr>
          <a:p>
            <a:pPr marL="416520" indent="-312840">
              <a:lnSpc>
                <a:spcPct val="83000"/>
              </a:lnSpc>
              <a:spcBef>
                <a:spcPts val="49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entury Gothic"/>
              </a:rPr>
              <a:t>De toute personne susceptible d'apporter des informations sur la situation de travai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 algn="ctr">
              <a:lnSpc>
                <a:spcPct val="83000"/>
              </a:lnSpc>
              <a:spcBef>
                <a:spcPts val="499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ffffff"/>
                </a:solidFill>
                <a:uFillTx/>
                <a:latin typeface="Century Gothic"/>
              </a:rPr>
              <a:t>ITMAM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>
              <a:lnSpc>
                <a:spcPct val="83000"/>
              </a:lnSpc>
              <a:spcBef>
                <a:spcPts val="64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La victime ce qu'elle faisai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>
              <a:lnSpc>
                <a:spcPct val="83000"/>
              </a:lnSpc>
              <a:spcBef>
                <a:spcPts val="64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Les collègues, ils connaissent le travai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>
              <a:lnSpc>
                <a:spcPct val="83000"/>
              </a:lnSpc>
              <a:spcBef>
                <a:spcPts val="64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Le service maintenance, il connaît l'état du matériel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>
              <a:lnSpc>
                <a:spcPct val="83000"/>
              </a:lnSpc>
              <a:spcBef>
                <a:spcPts val="64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Le service sécurit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>
              <a:lnSpc>
                <a:spcPct val="83000"/>
              </a:lnSpc>
              <a:spcBef>
                <a:spcPts val="64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Le CHS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16520" indent="-312840">
              <a:lnSpc>
                <a:spcPct val="83000"/>
              </a:lnSpc>
              <a:spcBef>
                <a:spcPts val="649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Century Gothic"/>
              </a:rPr>
              <a:t>Le médecin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71400" y="620640"/>
            <a:ext cx="7958160" cy="122400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9211b"/>
                </a:solidFill>
                <a:latin typeface="Century Gothic"/>
              </a:rPr>
              <a:t>L' </a:t>
            </a: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Century Gothic"/>
              </a:rPr>
              <a:t>I</a:t>
            </a:r>
            <a:r>
              <a:rPr b="1" lang="en-GB" sz="3600" spc="-1" strike="noStrike">
                <a:solidFill>
                  <a:srgbClr val="f9211b"/>
                </a:solidFill>
                <a:latin typeface="Century Gothic"/>
              </a:rPr>
              <a:t> NDIVIDU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71400" y="1400040"/>
            <a:ext cx="7958160" cy="354168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104760" algn="ctr">
              <a:lnSpc>
                <a:spcPct val="93000"/>
              </a:lnSpc>
              <a:spcBef>
                <a:spcPts val="9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- Quelle expérience avait-il du travail effectué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- Pour quelle raison agissait-il comme cela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104760" algn="ctr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- Avait-il des difficultés particulièr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1400" y="242640"/>
            <a:ext cx="7809120" cy="1168200"/>
          </a:xfrm>
          <a:prstGeom prst="rect">
            <a:avLst/>
          </a:prstGeom>
          <a:noFill/>
          <a:ln w="0">
            <a:noFill/>
          </a:ln>
        </p:spPr>
        <p:txBody>
          <a:bodyPr tIns="352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L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entury Gothic"/>
              </a:rPr>
              <a:t>T</a:t>
            </a:r>
            <a:r>
              <a:rPr b="1" lang="en-GB" sz="3200" spc="-1" strike="noStrike">
                <a:solidFill>
                  <a:srgbClr val="f9211b"/>
                </a:solidFill>
                <a:latin typeface="Century Gothic"/>
              </a:rPr>
              <a:t> ACHE AU MOMENT DE L'ACCID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71400" y="1781280"/>
            <a:ext cx="7958160" cy="4240080"/>
          </a:xfrm>
          <a:prstGeom prst="rect">
            <a:avLst/>
          </a:prstGeom>
          <a:noFill/>
          <a:ln w="0">
            <a:noFill/>
          </a:ln>
        </p:spPr>
        <p:txBody>
          <a:bodyPr tIns="28080" anchor="ctr">
            <a:normAutofit/>
          </a:bodyPr>
          <a:p>
            <a:pPr marL="420840" indent="-31608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Que faisait-il effectivement au moment de l'acciden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Comment s'y prenait-il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Pour quelles raisons devait-il faire ce travail de cette faç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Y a-t-il eu quelque chose d'inhabituel, incident de dysfonctionnement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16080" algn="just">
              <a:lnSpc>
                <a:spcPct val="93000"/>
              </a:lnSpc>
              <a:spcBef>
                <a:spcPts val="601"/>
              </a:spcBef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entury Gothic"/>
              </a:rPr>
              <a:t>Y a-t-il eu des modifications par rapport au mode opératoire habituel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LIN Frédéric</dc:creator>
  <dc:description/>
  <dc:language>en-US</dc:language>
  <cp:lastModifiedBy>RODRIGUES, Julien</cp:lastModifiedBy>
  <dcterms:modified xsi:type="dcterms:W3CDTF">2023-02-14T16:25:37Z</dcterms:modified>
  <cp:revision>13</cp:revision>
  <dc:subject/>
  <dc:title>Savoir construire l’arbre des causes</dc:title>
</cp:coreProperties>
</file>